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84A-3469-4D75-88CB-42C68D21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97C-588C-440B-9369-9CDCC82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CB4-99F6-4C58-9CB1-CA8A590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CF6-70E8-46AC-B9F2-7A68922E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AFF-A4E9-4D69-9238-42EB3484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A58-A3D9-4459-B86F-21FEC28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7C6-F4DE-4B78-BA79-C6ABC39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56A-23A4-4DDF-99B1-815E2212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D12-4DA6-4A0A-9CE3-235D941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B7F-26AA-43D9-8684-80CF71AD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957-9D2E-4020-B02F-F4D2699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64E-0C3D-460C-8982-402F512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ECD-6B64-4951-9808-2C072E465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aamath.com/div66rx2.htm" TargetMode="External"/><Relationship Id="rId2" Type="http://schemas.openxmlformats.org/officeDocument/2006/relationships/hyperlink" Target="http://www.math.com/school/subject1/lessons/S1U1L6GL.html" TargetMode="External"/><Relationship Id="rId3" Type="http://schemas.openxmlformats.org/officeDocument/2006/relationships/hyperlink" Target="http://www.mathsisfun.com/dividing-decimal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1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43828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111 #28 – 36 EV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 problems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LEASE REFER TO THE YOUTUBE VIDEO ON YOUR WIKI.  Watch the whole thing, it’s a great detailed 4 minute lesson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Divide F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ING FRACTIONS                           Multiply by the RECIPROCAL                  Copy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2743200"/>
                <a:ext cx="6800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66680" y="4724280"/>
                <a:ext cx="66834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ing Decimals are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ry anymore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on the links below to show examples of step by step of dividing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aamath.com/div66rx2.ht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.com/school/subject1/lessons/S1U1L6GL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sisfun.com/dividing-decimals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0"/>
            <a:ext cx="83059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1 #16 – 3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6 #18 – 42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C (A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981080"/>
            <a:ext cx="853452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under Today's Discussion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 should see at least 3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44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INTEGER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Isosceles Triangle 4"/>
          <p:cNvSpPr/>
          <p:nvPr/>
        </p:nvSpPr>
        <p:spPr>
          <a:xfrm rot="10800000">
            <a:off x="3123720" y="1447560"/>
            <a:ext cx="5867640" cy="3962160"/>
          </a:xfrm>
          <a:prstGeom prst="triangle">
            <a:avLst>
              <a:gd name="adj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Owner\AppData\Local\Microsoft\Windows\Temporary Internet Files\Content.IE5\R3O005QE\MC900432531[1].png"/>
          <p:cNvPicPr/>
          <p:nvPr/>
        </p:nvPicPr>
        <p:blipFill>
          <a:blip r:embed="rId2"/>
          <a:stretch/>
        </p:blipFill>
        <p:spPr>
          <a:xfrm>
            <a:off x="5486400" y="3581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Owner\AppData\Local\Microsoft\Windows\Temporary Internet Files\Content.IE5\ZA5CTEV1\MC910216403[1].png"/>
          <p:cNvPicPr/>
          <p:nvPr/>
        </p:nvPicPr>
        <p:blipFill>
          <a:blip r:embed="rId3"/>
          <a:stretch/>
        </p:blipFill>
        <p:spPr>
          <a:xfrm>
            <a:off x="3886200" y="1600200"/>
            <a:ext cx="12668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wner\AppData\Local\Microsoft\Windows\Temporary Internet Files\Content.IE5\ZA5CTEV1\MC910216403[1].png"/>
          <p:cNvPicPr/>
          <p:nvPr/>
        </p:nvPicPr>
        <p:blipFill>
          <a:blip r:embed="rId4"/>
          <a:stretch/>
        </p:blipFill>
        <p:spPr>
          <a:xfrm>
            <a:off x="6934320" y="1600200"/>
            <a:ext cx="1266840" cy="11034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1"/>
          <p:cNvSpPr/>
          <p:nvPr/>
        </p:nvSpPr>
        <p:spPr>
          <a:xfrm flipH="1">
            <a:off x="6019920" y="5423040"/>
            <a:ext cx="38160" cy="144756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4191120" y="5562720"/>
            <a:ext cx="1790640" cy="60948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 flipH="1">
            <a:off x="6019920" y="5257800"/>
            <a:ext cx="1828800" cy="99072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0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2614680" cy="274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 about myself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eople! I'm going to tell you about myself. First of all I'm zero, which isn't a positive or a negative. My friends are positives and negatives though..let me tell you about them thou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- when you multiply integers with same sign, do normal multiplication and the sign of the answer is positive 3 x 4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, do normal multiplication and the sign of the answer is positive (-3) x (-4)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s, do normal multiplication and the sign of the answer is negative 3 x (-4) = -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3) x (4) = -12 -the rules in multiplication are the same rules applying to division, except of course you have to change the sign to divi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 well...im zero. Zero is never negative or positive so yeah....By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1460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3059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gn = POSI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ign =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AND DIVIDE DIFFERENT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520" y="1905120"/>
                <a:ext cx="42098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" y="3200400"/>
                <a:ext cx="4537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4419720"/>
                <a:ext cx="239220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AND DIVIDE SAME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4920" y="2057400"/>
                <a:ext cx="4662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" y="3276720"/>
                <a:ext cx="47307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60640" y="4495680"/>
                <a:ext cx="2590560" cy="20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Simplify Algebraic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4214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" y="1981080"/>
                <a:ext cx="210024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24280" y="2133720"/>
                <a:ext cx="35197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4952880"/>
                <a:ext cx="4389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zz1</cp:lastModifiedBy>
  <dcterms:modified xsi:type="dcterms:W3CDTF">2010-09-30T00:24:38Z</dcterms:modified>
  <cp:revision>18</cp:revision>
  <dc:subject/>
  <dc:title>Slide 1</dc:title>
</cp:coreProperties>
</file>